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1DDA-F962-473F-9BBB-C5BED71D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BED5-DD7E-45D0-A327-BCE2A7CC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29D-B7F4-4023-9413-38EB2B09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01B4-DA8E-4943-AC86-F0ED5F8D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7983-1FD2-4801-BC37-F89A6A00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111B-9C36-4F61-8A8F-80CB89A9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52D2-DF22-47BE-98EA-442B71A4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0D82-843B-4D24-98B8-E88809EB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403E-CC94-496B-855D-EEB87E04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3FC7-EACF-405F-A9A6-9D6D3018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B95F-9D4C-4EA8-ABA3-77D04C30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9AD2-14B3-4E87-A878-847BF600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21E0-9B45-420C-9FBA-4163589C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92C7-FF39-4E68-A50F-D95094C3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6BAE-0515-4AE2-B3DF-3D3D131A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E608-FD94-4B80-9C44-0045899A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12AB-CC8E-473B-B6ED-17ADD8BD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87B83-2970-4154-8BAF-DCC4DDD9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8BD88-FC69-480B-B77B-E20E4C9D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8FB4D-1773-454C-851B-406BEEF2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89F12-C9FC-4E14-814A-87D60584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BAC4C-1152-4062-AE8B-E0658196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D71F-734F-49E2-80ED-5745E961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C51C1-73EE-4965-BF5E-BE30EBF9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611E5-574D-4E04-BC54-6E248767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4D6EE-017D-44BB-8DC1-A5F4585A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067F27-0972-4806-BA5C-D0ADBA96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97D72-00B7-4B46-A1E0-E1D1FAED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6AC7DB-6D4C-4DE6-8E07-A2AFEBF7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31C0E-423A-44D2-8559-D93506DE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26C9F-F902-4985-A976-4C73CCE7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9CD07-3B87-4B42-B364-0E3C5151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6CA62-DF6A-4191-8DC1-D63346F4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EF5C-EB28-4186-A62D-4ED5407E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81188-74CF-498C-86C3-2B53F1AF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5696B-7F87-42A6-8AAF-A8A01025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60380-728A-4ACC-9586-7BC70CC2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375AA-91E6-48D5-B848-B2BD3A0E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8177E-36F7-44E8-8FD5-A120A106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EF8D3-A0E8-4D2E-A151-99C54CB2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E2AFB-1EFC-4ECA-A964-9EDDDD20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08C57-7B8C-4A8D-AD4B-727DAD00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929C9-6886-4A94-B424-F766B95E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221564-CA55-4EDA-9A6B-EFD17AB3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6263-B118-4978-9F17-71153FE7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F53C84-66A0-4BF1-8BCB-B442CDDF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388F92-E5A4-422F-BAA3-B33F8CDF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50A5E-6899-4237-82B1-73049D04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9A447-8169-4A25-9D46-EFE4BF06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8C1B4E-21EC-41BA-BE6D-4C25C306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63B6BA-C1A1-444B-AABF-1B148D0E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2BD481-7B47-4723-9313-2765BEB6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E2A4AF-F1A1-4AB9-86F5-70B4548E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866B3-732D-4E35-A15F-1C8B4FE7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253CAB-669B-48D2-BFC2-18232203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3373-3CDC-44D3-877D-7DE21ABD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DB507A-15F3-4185-A05E-6ECDCBF6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D8F2C0-2E92-4079-83E5-92F5A90D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83752B-ABDF-4093-8A05-5235CEA7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EEA613-D44D-4BDE-B1E1-85538316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B08253-6C24-4D9B-8634-17EB4C63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48D56F-25F5-4071-B7CF-8B9D6658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2AC0B0-B1C3-4094-9B4C-C32FDDF9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6A3E59-1161-4BC9-8055-919BD560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E9F9A7-C6AB-4FD6-9FB1-904CE640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7B3EED-7600-4AF6-B057-765F3D4A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C8D6-C1A1-4DBF-8161-880DB881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5B40D9-267A-45CC-8985-D02EBFEE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EC7B8C-58B4-4D98-A8A6-1457A4E3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4999EB-C9EC-475C-AD35-CFE713DD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6C0CAB-D427-445A-A7A1-50DA0FC2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1F1ADE-2808-4105-9118-AB6CE761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13FBDE-FD86-4684-94C8-EF32C33A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595004-1A47-4ADA-BEFC-19177CA7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4A1590-B902-4415-AC27-8301C8A1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2D6F93-597F-49BD-A454-4A018205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40DE39-0467-4D55-B5AB-F880B610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9D1C-33C3-49B6-BE6D-0D5711FC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E5352C-8874-4E69-A387-9C29CA4E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6B208F-5E43-41DE-860D-488ADA3E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92CA56-237C-4655-9E21-BAD5C79E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228C21-4792-4AA8-9359-4C09CF81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2D411A-BDFF-4ED3-B06A-BA5C75FA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DDEC-6AF1-4EC2-9F9E-90246E25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6D41-6758-4BC2-883D-A432B06E10E0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ec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htec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htec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htec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Gerade Verbindung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Gerade Verbindung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Gerade Verbindung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Gerade Verbindung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Gerade Verbindung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Gerade Verbindung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hteck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lipse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lipse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lipse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lipse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lipse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0B35-AEF5-406B-88F5-A7572CF8DBEE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9FFD-9B22-4CB8-89C1-787B45EAB8B9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htec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htec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htec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htec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Gerade Verbindung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Gerade Verbindung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Gerade Verbindung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Gerade Verbindung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Gerade Verbindung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htec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lipse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lipse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lipse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Gerade Verbindung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1ECA-7A3F-4FA7-B67D-A7CF3BB6A229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EDD5-C79E-458D-8E73-4B1C7BD5D06A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Gerade Verbindung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Gerade Verbindung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Gerade Verbindung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Gerade Verbindung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hteck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Gerade Verbindung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lipse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7681-D6B6-4960-B24B-DBF155B46933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Gerade Verbindung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lipse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Gerade Verbindung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htec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Gerade Verbindung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Gerade Verbindung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Gerade Verbindung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32ED-1D77-48CC-80BB-1487BECCE3E6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newable_energy" TargetMode="External"/><Relationship Id="rId2" Type="http://schemas.openxmlformats.org/officeDocument/2006/relationships/hyperlink" Target="http://www.soolux.com/uploads/tx_sftextbox/Erneuerbare-Energien-am-Gesamtverbrauch-98-07.JPG" TargetMode="External"/><Relationship Id="rId3" Type="http://schemas.openxmlformats.org/officeDocument/2006/relationships/hyperlink" Target="http://www.waermewechsel.de/fileadmin/content/Wissen-Daten/Erneuerbar_Heizen/Anteile_Waermeverbrauch_2008.jpg" TargetMode="External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28800" y="1357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800" spc="-1" strike="noStrike" u="sng">
                <a:solidFill>
                  <a:srgbClr val="000000"/>
                </a:solidFill>
                <a:uFillTx/>
                <a:latin typeface="Forte"/>
              </a:rPr>
              <a:t>GFS ENGLISCH</a:t>
            </a: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14720" y="4642920"/>
            <a:ext cx="6929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575f6d"/>
                </a:solidFill>
                <a:latin typeface="Forte"/>
              </a:rPr>
              <a:t>Luisa Johnen G1-1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575f6d"/>
                </a:solidFill>
                <a:latin typeface="Forte"/>
              </a:rPr>
              <a:t>04.05.10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feld 3"/>
          <p:cNvSpPr/>
          <p:nvPr/>
        </p:nvSpPr>
        <p:spPr>
          <a:xfrm>
            <a:off x="500040" y="142920"/>
            <a:ext cx="742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Differences Photovoltaic and Solar collectors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071720" y="1928880"/>
          <a:ext cx="6000480" cy="2500200"/>
        </p:xfrm>
        <a:graphic>
          <a:graphicData uri="http://schemas.openxmlformats.org/drawingml/2006/table">
            <a:tbl>
              <a:tblPr/>
              <a:tblGrid>
                <a:gridCol w="3000240"/>
                <a:gridCol w="300024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volta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ar collect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 ener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iency: 14-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fe span: 30 yea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hea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iency: 75- 85%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fe span: 40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00.000 households in     Germany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es electrical energy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Textfeld 3"/>
          <p:cNvSpPr/>
          <p:nvPr/>
        </p:nvSpPr>
        <p:spPr>
          <a:xfrm>
            <a:off x="714240" y="357120"/>
            <a:ext cx="764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orte"/>
              </a:rPr>
              <a:t>Photovoltaic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6" descr=""/>
          <p:cNvPicPr/>
          <p:nvPr/>
        </p:nvPicPr>
        <p:blipFill>
          <a:blip r:embed="rId1"/>
          <a:stretch/>
        </p:blipFill>
        <p:spPr>
          <a:xfrm>
            <a:off x="3143160" y="3857760"/>
            <a:ext cx="36194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feld 3"/>
          <p:cNvSpPr/>
          <p:nvPr/>
        </p:nvSpPr>
        <p:spPr>
          <a:xfrm>
            <a:off x="714240" y="357120"/>
            <a:ext cx="764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orte"/>
              </a:rPr>
              <a:t>Photovoltaic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5" name="Picture 2" descr="C:\Dokumente und Einstellungen\Luisa\Eigene Dateien\Eigene Bilder\c09642c4b4.jpg"/>
          <p:cNvPicPr/>
          <p:nvPr/>
        </p:nvPicPr>
        <p:blipFill>
          <a:blip r:embed="rId1"/>
          <a:stretch/>
        </p:blipFill>
        <p:spPr>
          <a:xfrm>
            <a:off x="1428840" y="1785960"/>
            <a:ext cx="5810040" cy="4357800"/>
          </a:xfrm>
          <a:prstGeom prst="rect">
            <a:avLst/>
          </a:prstGeom>
          <a:ln w="0">
            <a:noFill/>
          </a:ln>
        </p:spPr>
      </p:pic>
      <p:sp>
        <p:nvSpPr>
          <p:cNvPr id="396" name="Textfeld 5"/>
          <p:cNvSpPr/>
          <p:nvPr/>
        </p:nvSpPr>
        <p:spPr>
          <a:xfrm>
            <a:off x="857160" y="242892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voltaic cell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Textfeld 6"/>
          <p:cNvSpPr/>
          <p:nvPr/>
        </p:nvSpPr>
        <p:spPr>
          <a:xfrm>
            <a:off x="928800" y="421488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er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Textfeld 7"/>
          <p:cNvSpPr/>
          <p:nvPr/>
        </p:nvSpPr>
        <p:spPr>
          <a:xfrm>
            <a:off x="5643720" y="3571920"/>
            <a:ext cx="78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 network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Inhaltsplatzhalter 2"/>
          <p:cNvSpPr/>
          <p:nvPr/>
        </p:nvSpPr>
        <p:spPr>
          <a:xfrm>
            <a:off x="428760" y="1571760"/>
            <a:ext cx="822960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8000 hydropower plants in Germany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iggest plant of Germany in Thüringe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iggest plant of the world is the Three Gorges Dam in Chin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Textfeld 5"/>
          <p:cNvSpPr/>
          <p:nvPr/>
        </p:nvSpPr>
        <p:spPr>
          <a:xfrm>
            <a:off x="1214280" y="0"/>
            <a:ext cx="6357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orte"/>
              </a:rPr>
              <a:t>Hydropower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214200" y="3976560"/>
            <a:ext cx="4143600" cy="2724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4572000" y="3976560"/>
            <a:ext cx="403380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C:\Dokumente und Einstellungen\Luisa\Eigene Dateien\Eigene Bilder\Bild1.jpg"/>
          <p:cNvPicPr/>
          <p:nvPr/>
        </p:nvPicPr>
        <p:blipFill>
          <a:blip r:embed="rId1"/>
          <a:stretch/>
        </p:blipFill>
        <p:spPr>
          <a:xfrm>
            <a:off x="1000080" y="1357200"/>
            <a:ext cx="6681960" cy="5072040"/>
          </a:xfrm>
          <a:prstGeom prst="rect">
            <a:avLst/>
          </a:prstGeom>
          <a:ln w="0">
            <a:noFill/>
          </a:ln>
        </p:spPr>
      </p:pic>
      <p:sp>
        <p:nvSpPr>
          <p:cNvPr id="404" name="Textfeld 5"/>
          <p:cNvSpPr/>
          <p:nvPr/>
        </p:nvSpPr>
        <p:spPr>
          <a:xfrm>
            <a:off x="2000160" y="321480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Dam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Textfeld 6"/>
          <p:cNvSpPr/>
          <p:nvPr/>
        </p:nvSpPr>
        <p:spPr>
          <a:xfrm>
            <a:off x="3929040" y="3714840"/>
            <a:ext cx="100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Generator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Textfeld 8"/>
          <p:cNvSpPr/>
          <p:nvPr/>
        </p:nvSpPr>
        <p:spPr>
          <a:xfrm>
            <a:off x="5072040" y="4714920"/>
            <a:ext cx="100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Turbine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Textfeld 9"/>
          <p:cNvSpPr/>
          <p:nvPr/>
        </p:nvSpPr>
        <p:spPr>
          <a:xfrm>
            <a:off x="1071720" y="28576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Textfeld 11"/>
          <p:cNvSpPr/>
          <p:nvPr/>
        </p:nvSpPr>
        <p:spPr>
          <a:xfrm>
            <a:off x="1214280" y="214200"/>
            <a:ext cx="6357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orte"/>
              </a:rPr>
              <a:t>Hydropower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488880" y="1940040"/>
          <a:ext cx="8229600" cy="4829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8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simple and fast construc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indefinitely and worldwide availab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es no greenhouse gases during oper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1224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high cos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solar radiation sticks to weather, time of the day and season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constant energy supply possib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12240">
                      <a:solidFill>
                        <a:srgbClr val="fe863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Textfeld 3"/>
          <p:cNvSpPr/>
          <p:nvPr/>
        </p:nvSpPr>
        <p:spPr>
          <a:xfrm>
            <a:off x="3143160" y="114300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d63"/>
                </a:solidFill>
                <a:latin typeface="Calibri"/>
              </a:rPr>
              <a:t>Solar energy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Titel 1"/>
          <p:cNvSpPr/>
          <p:nvPr/>
        </p:nvSpPr>
        <p:spPr>
          <a:xfrm>
            <a:off x="428760" y="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Advantages and disadvantages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571680" y="2000160"/>
          <a:ext cx="7929360" cy="4675320"/>
        </p:xfrm>
        <a:graphic>
          <a:graphicData uri="http://schemas.openxmlformats.org/drawingml/2006/table">
            <a:tbl>
              <a:tblPr/>
              <a:tblGrid>
                <a:gridCol w="4000320"/>
                <a:gridCol w="3929040"/>
              </a:tblGrid>
              <a:tr h="467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no greenhouse gas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ple construc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dropower plants durab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efficiency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1224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loss of important  living space in the water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irment of nature and landscap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sh die because of the turbine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12240">
                      <a:solidFill>
                        <a:srgbClr val="fe863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Titel 1"/>
          <p:cNvSpPr/>
          <p:nvPr/>
        </p:nvSpPr>
        <p:spPr>
          <a:xfrm>
            <a:off x="428760" y="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Advantages and disadvantages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Textfeld 6"/>
          <p:cNvSpPr/>
          <p:nvPr/>
        </p:nvSpPr>
        <p:spPr>
          <a:xfrm>
            <a:off x="3000240" y="114300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d63"/>
                </a:solidFill>
                <a:latin typeface="Calibri"/>
              </a:rPr>
              <a:t>Hydropower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Inhaltsplatzhalter 2" descr=""/>
          <p:cNvPicPr/>
          <p:nvPr/>
        </p:nvPicPr>
        <p:blipFill>
          <a:blip r:embed="rId1"/>
          <a:stretch/>
        </p:blipFill>
        <p:spPr>
          <a:xfrm>
            <a:off x="304920" y="1657440"/>
            <a:ext cx="6199200" cy="4902120"/>
          </a:xfrm>
          <a:prstGeom prst="rect">
            <a:avLst/>
          </a:prstGeom>
          <a:ln w="0">
            <a:noFill/>
          </a:ln>
        </p:spPr>
      </p:pic>
      <p:sp>
        <p:nvSpPr>
          <p:cNvPr id="416" name="Textfeld 3"/>
          <p:cNvSpPr/>
          <p:nvPr/>
        </p:nvSpPr>
        <p:spPr>
          <a:xfrm>
            <a:off x="1071720" y="285840"/>
            <a:ext cx="6357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orte"/>
              </a:rPr>
              <a:t>Potential 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2"/>
          <a:stretch/>
        </p:blipFill>
        <p:spPr>
          <a:xfrm>
            <a:off x="1071720" y="3929040"/>
            <a:ext cx="3660480" cy="2928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"/>
          <p:cNvPicPr/>
          <p:nvPr/>
        </p:nvPicPr>
        <p:blipFill>
          <a:blip r:embed="rId3"/>
          <a:stretch/>
        </p:blipFill>
        <p:spPr>
          <a:xfrm>
            <a:off x="6000840" y="1714680"/>
            <a:ext cx="264312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d2611c"/>
                </a:solidFill>
                <a:uFillTx/>
                <a:latin typeface="Calibri"/>
                <a:hlinkClick r:id="rId1"/>
              </a:rPr>
              <a:t>http://en.wikipedia.org/wiki/Renewable_energ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d2611c"/>
                </a:solidFill>
                <a:uFillTx/>
                <a:latin typeface="Calibri"/>
                <a:hlinkClick r:id="rId2"/>
              </a:rPr>
              <a:t>http://www.soolux.com/uploads/tx_sftextbox/Erneuerbare-Energien-am-Gesamtverbrauch-98-07.JP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d2611c"/>
                </a:solidFill>
                <a:uFillTx/>
                <a:latin typeface="Calibri"/>
                <a:hlinkClick r:id="rId3"/>
              </a:rPr>
              <a:t>http://www.waermewechsel.de/fileadmin/content/Wissen-Daten/Erneuerbar_Heizen/Anteile_Waermeverbrauch_2008.jp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595d63"/>
                </a:solidFill>
                <a:uFillTx/>
                <a:latin typeface="Calibri"/>
              </a:rPr>
              <a:t>http://de.wikipedia.org/wiki/Sonnenenergi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595d63"/>
                </a:solidFill>
                <a:uFillTx/>
                <a:latin typeface="Calibri"/>
              </a:rPr>
              <a:t>http://de.wikipedia.org/wiki/Wasserkraf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95d63"/>
                </a:solidFill>
                <a:latin typeface="Calibri"/>
              </a:rPr>
              <a:t>http://de.wikipedia.org/wiki/Sonnenkollektor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95d63"/>
                </a:solidFill>
                <a:latin typeface="Calibri"/>
              </a:rPr>
              <a:t>http://www.solarbusiness.de/fakten/sonnenenergie-die-populaere/alle-setzen-auf-die-sonne/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95d63"/>
                </a:solidFill>
                <a:latin typeface="Calibri"/>
              </a:rPr>
              <a:t>http://www.erneuerbare-energien.de/inhalt/42386/5466/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Textfeld 4"/>
          <p:cNvSpPr/>
          <p:nvPr/>
        </p:nvSpPr>
        <p:spPr>
          <a:xfrm>
            <a:off x="714240" y="357120"/>
            <a:ext cx="57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Forte"/>
              </a:rPr>
              <a:t>Sources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142560" y="1571400"/>
            <a:ext cx="85438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Forte"/>
              </a:rPr>
              <a:t>Thank you for listening!! 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285840" y="1428840"/>
            <a:ext cx="840096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 u="sng">
                <a:solidFill>
                  <a:srgbClr val="000000"/>
                </a:solidFill>
                <a:uFillTx/>
                <a:latin typeface="Forte"/>
              </a:rPr>
              <a:t>Renewable</a:t>
            </a:r>
            <a:r>
              <a:rPr b="0" lang="de-DE" sz="9200" spc="-1" strike="noStrike" u="sng">
                <a:solidFill>
                  <a:srgbClr val="000000"/>
                </a:solidFill>
                <a:uFillTx/>
                <a:latin typeface="Forte"/>
              </a:rPr>
              <a:t> </a:t>
            </a:r>
            <a:r>
              <a:rPr b="0" lang="en-US" sz="9200" spc="-1" strike="noStrike" u="sng">
                <a:solidFill>
                  <a:srgbClr val="000000"/>
                </a:solidFill>
                <a:uFillTx/>
                <a:latin typeface="Forte"/>
              </a:rPr>
              <a:t>Energy</a:t>
            </a:r>
            <a:endParaRPr b="0" lang="en-US" sz="9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57120" y="1714680"/>
            <a:ext cx="832968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erally inform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velopmen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ar collector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otovoltaic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ydropower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vantages and disadvantag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tential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Textfeld 3"/>
          <p:cNvSpPr/>
          <p:nvPr/>
        </p:nvSpPr>
        <p:spPr>
          <a:xfrm>
            <a:off x="500040" y="285840"/>
            <a:ext cx="72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595d63"/>
                </a:solidFill>
                <a:uFillTx/>
                <a:latin typeface="Forte"/>
              </a:rPr>
              <a:t>Structure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600200"/>
            <a:ext cx="8472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it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e to fossil fuel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build themselves or are indefinitely availabl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ect the environ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s the production of greenhouse gas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something against the climate chan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ssil fuels are limit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source of energ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ar energy, geothermal energy, wind power or hydropow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Textfeld 4"/>
          <p:cNvSpPr/>
          <p:nvPr/>
        </p:nvSpPr>
        <p:spPr>
          <a:xfrm>
            <a:off x="285840" y="285840"/>
            <a:ext cx="835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orte"/>
              </a:rPr>
              <a:t>Generally information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Inhaltsplatzhalter 3" descr=""/>
          <p:cNvPicPr/>
          <p:nvPr/>
        </p:nvPicPr>
        <p:blipFill>
          <a:blip r:embed="rId1"/>
          <a:stretch/>
        </p:blipFill>
        <p:spPr>
          <a:xfrm>
            <a:off x="0" y="0"/>
            <a:ext cx="7931160" cy="6480000"/>
          </a:xfrm>
          <a:prstGeom prst="rect">
            <a:avLst/>
          </a:prstGeom>
          <a:ln w="0">
            <a:noFill/>
          </a:ln>
        </p:spPr>
      </p:pic>
      <p:sp>
        <p:nvSpPr>
          <p:cNvPr id="359" name="Textfeld 5"/>
          <p:cNvSpPr/>
          <p:nvPr/>
        </p:nvSpPr>
        <p:spPr>
          <a:xfrm>
            <a:off x="500040" y="285840"/>
            <a:ext cx="742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orte"/>
              </a:rPr>
              <a:t>Development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Inhaltsplatzhalter 5" descr=""/>
          <p:cNvPicPr/>
          <p:nvPr/>
        </p:nvPicPr>
        <p:blipFill>
          <a:blip r:embed="rId1"/>
          <a:stretch/>
        </p:blipFill>
        <p:spPr>
          <a:xfrm>
            <a:off x="281160" y="133200"/>
            <a:ext cx="858168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C:\Dokumente und Einstellungen\Luisa\Eigene Dateien\Eigene Bilder\Bild1.png"/>
          <p:cNvPicPr/>
          <p:nvPr/>
        </p:nvPicPr>
        <p:blipFill>
          <a:blip r:embed="rId1"/>
          <a:stretch/>
        </p:blipFill>
        <p:spPr>
          <a:xfrm>
            <a:off x="2428920" y="3673440"/>
            <a:ext cx="3643200" cy="31845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28760" y="142884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nge of solar radiation to he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1.500.000 solar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ergy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ants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 in Germany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dea originates from a hosepip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Textfeld 14"/>
          <p:cNvSpPr/>
          <p:nvPr/>
        </p:nvSpPr>
        <p:spPr>
          <a:xfrm>
            <a:off x="571680" y="357120"/>
            <a:ext cx="7643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orte"/>
              </a:rPr>
              <a:t>Solar collector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C:\Dokumente und Einstellungen\Luisa\Eigene Dateien\Eigene Bilder\Bild1.png"/>
          <p:cNvPicPr/>
          <p:nvPr/>
        </p:nvPicPr>
        <p:blipFill>
          <a:blip r:embed="rId1"/>
          <a:stretch/>
        </p:blipFill>
        <p:spPr>
          <a:xfrm>
            <a:off x="0" y="3333600"/>
            <a:ext cx="9144000" cy="3524400"/>
          </a:xfrm>
          <a:prstGeom prst="rect">
            <a:avLst/>
          </a:prstGeom>
          <a:ln w="0">
            <a:noFill/>
          </a:ln>
        </p:spPr>
      </p:pic>
      <p:sp>
        <p:nvSpPr>
          <p:cNvPr id="365" name="Textfeld 7"/>
          <p:cNvSpPr/>
          <p:nvPr/>
        </p:nvSpPr>
        <p:spPr>
          <a:xfrm>
            <a:off x="5786280" y="407196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ola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ation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Textfeld 14"/>
          <p:cNvSpPr/>
          <p:nvPr/>
        </p:nvSpPr>
        <p:spPr>
          <a:xfrm>
            <a:off x="1857240" y="44290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Textfeld 15"/>
          <p:cNvSpPr/>
          <p:nvPr/>
        </p:nvSpPr>
        <p:spPr>
          <a:xfrm>
            <a:off x="1214280" y="578628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d wat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Textfeld 16"/>
          <p:cNvSpPr/>
          <p:nvPr/>
        </p:nvSpPr>
        <p:spPr>
          <a:xfrm>
            <a:off x="6429240" y="64882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War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Textfeld 17"/>
          <p:cNvSpPr/>
          <p:nvPr/>
        </p:nvSpPr>
        <p:spPr>
          <a:xfrm>
            <a:off x="3500280" y="6488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b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Textfeld 18"/>
          <p:cNvSpPr/>
          <p:nvPr/>
        </p:nvSpPr>
        <p:spPr>
          <a:xfrm>
            <a:off x="7286760" y="53578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sol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Textfeld 19"/>
          <p:cNvSpPr/>
          <p:nvPr/>
        </p:nvSpPr>
        <p:spPr>
          <a:xfrm>
            <a:off x="7286760" y="60721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bsorb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Textfeld 20"/>
          <p:cNvSpPr/>
          <p:nvPr/>
        </p:nvSpPr>
        <p:spPr>
          <a:xfrm>
            <a:off x="5643720" y="46432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t radi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4" descr="C:\Dokumente und Einstellungen\Luisa\Eigene Dateien\Eigene Bilder\Bild1.png"/>
          <p:cNvPicPr/>
          <p:nvPr/>
        </p:nvPicPr>
        <p:blipFill>
          <a:blip r:embed="rId2"/>
          <a:stretch/>
        </p:blipFill>
        <p:spPr>
          <a:xfrm>
            <a:off x="2286000" y="0"/>
            <a:ext cx="4357800" cy="3314880"/>
          </a:xfrm>
          <a:prstGeom prst="rect">
            <a:avLst/>
          </a:prstGeom>
          <a:ln w="0">
            <a:noFill/>
          </a:ln>
        </p:spPr>
      </p:pic>
      <p:sp>
        <p:nvSpPr>
          <p:cNvPr id="374" name="Textfeld 23"/>
          <p:cNvSpPr/>
          <p:nvPr/>
        </p:nvSpPr>
        <p:spPr>
          <a:xfrm>
            <a:off x="4786200" y="857160"/>
            <a:ext cx="7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ube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Textfeld 24"/>
          <p:cNvSpPr/>
          <p:nvPr/>
        </p:nvSpPr>
        <p:spPr>
          <a:xfrm>
            <a:off x="5143680" y="2214720"/>
            <a:ext cx="78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Textfeld 25"/>
          <p:cNvSpPr/>
          <p:nvPr/>
        </p:nvSpPr>
        <p:spPr>
          <a:xfrm>
            <a:off x="4857840" y="242892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acuu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Textfeld 26"/>
          <p:cNvSpPr/>
          <p:nvPr/>
        </p:nvSpPr>
        <p:spPr>
          <a:xfrm>
            <a:off x="4643280" y="2643120"/>
            <a:ext cx="85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bsorber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Textfeld 27"/>
          <p:cNvSpPr/>
          <p:nvPr/>
        </p:nvSpPr>
        <p:spPr>
          <a:xfrm>
            <a:off x="4286160" y="2928960"/>
            <a:ext cx="85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C:\Dokumente und Einstellungen\Luisa\Eigene Dateien\Eigene Bilder\Bild1.png"/>
          <p:cNvPicPr/>
          <p:nvPr/>
        </p:nvPicPr>
        <p:blipFill>
          <a:blip r:embed="rId1"/>
          <a:stretch/>
        </p:blipFill>
        <p:spPr>
          <a:xfrm>
            <a:off x="1182600" y="1214280"/>
            <a:ext cx="6032520" cy="5659560"/>
          </a:xfrm>
          <a:prstGeom prst="rect">
            <a:avLst/>
          </a:prstGeom>
          <a:ln w="0">
            <a:noFill/>
          </a:ln>
        </p:spPr>
      </p:pic>
      <p:sp>
        <p:nvSpPr>
          <p:cNvPr id="380" name="Textfeld 7"/>
          <p:cNvSpPr/>
          <p:nvPr/>
        </p:nvSpPr>
        <p:spPr>
          <a:xfrm>
            <a:off x="4643280" y="4357800"/>
            <a:ext cx="64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Drinking water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Textfeld 9"/>
          <p:cNvSpPr/>
          <p:nvPr/>
        </p:nvSpPr>
        <p:spPr>
          <a:xfrm>
            <a:off x="4286160" y="6429240"/>
            <a:ext cx="50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old water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Textfeld 11"/>
          <p:cNvSpPr/>
          <p:nvPr/>
        </p:nvSpPr>
        <p:spPr>
          <a:xfrm>
            <a:off x="5715000" y="228600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ollector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Textfeld 12"/>
          <p:cNvSpPr/>
          <p:nvPr/>
        </p:nvSpPr>
        <p:spPr>
          <a:xfrm>
            <a:off x="6286680" y="1428840"/>
            <a:ext cx="78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olar radiation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Textfeld 13"/>
          <p:cNvSpPr/>
          <p:nvPr/>
        </p:nvSpPr>
        <p:spPr>
          <a:xfrm>
            <a:off x="3786120" y="5000760"/>
            <a:ext cx="57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istern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Textfeld 14"/>
          <p:cNvSpPr/>
          <p:nvPr/>
        </p:nvSpPr>
        <p:spPr>
          <a:xfrm>
            <a:off x="4857840" y="2857680"/>
            <a:ext cx="10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ooling water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86" name="Gerade Verbindung mit Pfeil 18"/>
          <p:cNvCxnSpPr/>
          <p:nvPr/>
        </p:nvCxnSpPr>
        <p:spPr>
          <a:xfrm flipH="1" flipV="1">
            <a:off x="4857480" y="2642760"/>
            <a:ext cx="286560" cy="21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7" name="Gerade Verbindung mit Pfeil 23"/>
          <p:cNvCxnSpPr/>
          <p:nvPr/>
        </p:nvCxnSpPr>
        <p:spPr>
          <a:xfrm>
            <a:off x="5643360" y="3071520"/>
            <a:ext cx="286200" cy="214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8" name="Textfeld 10"/>
          <p:cNvSpPr/>
          <p:nvPr/>
        </p:nvSpPr>
        <p:spPr>
          <a:xfrm>
            <a:off x="1500120" y="0"/>
            <a:ext cx="600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orte"/>
              </a:rPr>
              <a:t>Solar collector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5:34:25Z</dcterms:created>
  <dc:creator>Luisa</dc:creator>
  <dc:description/>
  <dc:language>en-US</dc:language>
  <cp:lastModifiedBy>Sonja</cp:lastModifiedBy>
  <dcterms:modified xsi:type="dcterms:W3CDTF">2010-06-22T19:55:42Z</dcterms:modified>
  <cp:revision>128</cp:revision>
  <dc:subject/>
  <dc:title>GFS Englisch</dc:title>
</cp:coreProperties>
</file>